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E1F-0576-4A86-AC40-EB2CB43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FEC-C487-475E-A80B-9D54514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6F6-78B8-4CE9-817D-948C2090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9D9-363E-4532-A9D8-D7F386C9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1EA-5346-4412-BE1E-BBD180E4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32F9-0986-4FBD-8480-C312F31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3D8F-CE68-4505-8080-C1CC465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145-1A30-40F3-9248-0DC0EED5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CF3-721E-4CDF-8EE3-D275726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080-C7FE-492B-8C70-6DB4D22F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C7E6-0682-49B0-AD70-2E59E1D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01D-EA0F-4161-958B-E4DEC41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301A-38F4-4965-A509-A33CFB8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8F31-9BBB-4A4B-98CD-039ADF30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3F2F-FD3A-4865-8E5F-D348F71F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BD8-CF98-47CE-8674-755CB733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749-5F58-45F0-A0F5-361C6FE8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BA2-0508-4448-8639-75DDCAE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9BC-DC56-479C-A0DA-FCAE912A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832-FC2F-4E29-8D08-BEC4903D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19A-20BF-410E-A402-670BE89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8F7-92AC-4E7C-AFDF-5F37873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FEC-C022-4215-B934-CC946E6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3B9-D387-484A-A1D6-7A855DA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B8E8-451A-4B19-A87D-AD17EBEAA0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7AB-818A-44D6-8C4C-24AFFE6F12F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raq’s political playe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of Ir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Saddamhussein"/>
          <p:cNvPicPr/>
          <p:nvPr/>
        </p:nvPicPr>
        <p:blipFill>
          <a:blip r:embed="rId1"/>
          <a:stretch/>
        </p:blipFill>
        <p:spPr>
          <a:xfrm>
            <a:off x="1066680" y="4114800"/>
            <a:ext cx="2606760" cy="254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faisalagain"/>
          <p:cNvPicPr/>
          <p:nvPr/>
        </p:nvPicPr>
        <p:blipFill>
          <a:blip r:embed="rId2"/>
          <a:stretch/>
        </p:blipFill>
        <p:spPr>
          <a:xfrm>
            <a:off x="6934320" y="838080"/>
            <a:ext cx="18288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ndy"/>
              </a:rPr>
              <a:t>Effects of British colonialism on Iraqi political structures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tuation of Sunni Arab political 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mpowerment of the trib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rur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d major schisms in Iraqi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Major players in Iraqi Politics,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921-1936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6" name="Diagram 6"/>
          <p:cNvGrpSpPr/>
          <p:nvPr/>
        </p:nvGrpSpPr>
        <p:grpSpPr>
          <a:xfrm>
            <a:off x="2882880" y="1869840"/>
            <a:ext cx="3907080" cy="3906720"/>
            <a:chOff x="2882880" y="1869840"/>
            <a:chExt cx="3907080" cy="3906720"/>
          </a:xfrm>
        </p:grpSpPr>
        <p:sp>
          <p:nvSpPr>
            <p:cNvPr id="117" name="_s1028"/>
            <p:cNvSpPr/>
            <p:nvPr/>
          </p:nvSpPr>
          <p:spPr>
            <a:xfrm flipH="1">
              <a:off x="3857400" y="382248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1029"/>
            <p:cNvSpPr/>
            <p:nvPr/>
          </p:nvSpPr>
          <p:spPr>
            <a:xfrm>
              <a:off x="288288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it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1030"/>
            <p:cNvSpPr/>
            <p:nvPr/>
          </p:nvSpPr>
          <p:spPr>
            <a:xfrm>
              <a:off x="4835520" y="4309920"/>
              <a:ext cx="0" cy="4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4348440" y="48002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5322960" y="382248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581364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ibal leaders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dl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 flipV="1">
              <a:off x="4835520" y="2844000"/>
              <a:ext cx="0" cy="49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348440" y="18698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ral Shi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36"/>
            <p:cNvSpPr/>
            <p:nvPr/>
          </p:nvSpPr>
          <p:spPr>
            <a:xfrm>
              <a:off x="434844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arc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ime Mini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Results: Catch 22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dgling sense of Iraqi national identity but “two Iraqs” and no real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wants independence but relies on British to maintain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ish support undermines state legitimacy but necessary for maintain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ation of power in Baghdad but British support for tri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mass support, land reform needed, but narrow base of state support requires some aid from tribal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Iraqi Politics, Phase II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e rise of the military &amp; the creation of the Iraqi Republic (1936-196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27241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958 Revolu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42721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t overthrow of the mon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the Republic of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monial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sim as PM, commander in chief, minister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 &amp; Dictatorship under President Abd al-Karim Qa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ging of western advisors, efforts to solve Kurdish problem, land reform, public welfar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ation of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Qasim"/>
          <p:cNvPicPr/>
          <p:nvPr/>
        </p:nvPicPr>
        <p:blipFill>
          <a:blip r:embed="rId8"/>
          <a:stretch/>
        </p:blipFill>
        <p:spPr>
          <a:xfrm>
            <a:off x="5715000" y="609480"/>
            <a:ext cx="305748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5257800" y="4952880"/>
            <a:ext cx="3200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d al Karim Qasim, President of Iraq, 1958-19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sul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becomes entrenched part of Iraqi politic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influence over politics prevents civilian access, impedes societal coalition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1958 and 1968 more than 10 coups and attempted coups, two armed rebellions, semi-continuous civil war against Ku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-35% of all cabinet posts held by military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residents, most PMs, and almost all ministers of interior and defense were ex-military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y independent foreign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and reforms &amp; sporadic inclusion of Shiites &amp; Kurds into the political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Major Players in Iraqi Politics, 1936-1968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8" name="Diagram 0"/>
          <p:cNvGrpSpPr/>
          <p:nvPr/>
        </p:nvGrpSpPr>
        <p:grpSpPr>
          <a:xfrm>
            <a:off x="2892240" y="1766880"/>
            <a:ext cx="4107960" cy="4108320"/>
            <a:chOff x="2892240" y="1766880"/>
            <a:chExt cx="4107960" cy="4108320"/>
          </a:xfrm>
        </p:grpSpPr>
        <p:sp>
          <p:nvSpPr>
            <p:cNvPr id="139" name="_s2052"/>
            <p:cNvSpPr/>
            <p:nvPr/>
          </p:nvSpPr>
          <p:spPr>
            <a:xfrm flipH="1" flipV="1">
              <a:off x="4218840" y="3095280"/>
              <a:ext cx="3632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2053"/>
            <p:cNvSpPr/>
            <p:nvPr/>
          </p:nvSpPr>
          <p:spPr>
            <a:xfrm>
              <a:off x="3342960" y="2217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ypt &amp;Sy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2054"/>
            <p:cNvSpPr/>
            <p:nvPr/>
          </p:nvSpPr>
          <p:spPr>
            <a:xfrm flipH="1">
              <a:off x="3918960" y="3821040"/>
              <a:ext cx="512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2892240" y="3306600"/>
              <a:ext cx="102816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ath 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 flipH="1">
              <a:off x="4221000" y="4184640"/>
              <a:ext cx="36144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3342960" y="4395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raqi Commun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2058"/>
            <p:cNvSpPr/>
            <p:nvPr/>
          </p:nvSpPr>
          <p:spPr>
            <a:xfrm>
              <a:off x="4946400" y="4335480"/>
              <a:ext cx="1080" cy="51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4431960" y="484668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it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until 195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060"/>
            <p:cNvSpPr/>
            <p:nvPr/>
          </p:nvSpPr>
          <p:spPr>
            <a:xfrm>
              <a:off x="5310000" y="4184640"/>
              <a:ext cx="3632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_s2061"/>
            <p:cNvSpPr/>
            <p:nvPr/>
          </p:nvSpPr>
          <p:spPr>
            <a:xfrm>
              <a:off x="5520960" y="4395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ndl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062"/>
            <p:cNvSpPr/>
            <p:nvPr/>
          </p:nvSpPr>
          <p:spPr>
            <a:xfrm>
              <a:off x="5460840" y="3821040"/>
              <a:ext cx="51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2063"/>
            <p:cNvSpPr/>
            <p:nvPr/>
          </p:nvSpPr>
          <p:spPr>
            <a:xfrm>
              <a:off x="5972040" y="3306600"/>
              <a:ext cx="102816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nistry/monarch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until 195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2064"/>
            <p:cNvSpPr/>
            <p:nvPr/>
          </p:nvSpPr>
          <p:spPr>
            <a:xfrm flipV="1">
              <a:off x="5310000" y="3095280"/>
              <a:ext cx="361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065"/>
            <p:cNvSpPr/>
            <p:nvPr/>
          </p:nvSpPr>
          <p:spPr>
            <a:xfrm>
              <a:off x="5520960" y="2217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i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2066"/>
            <p:cNvSpPr/>
            <p:nvPr/>
          </p:nvSpPr>
          <p:spPr>
            <a:xfrm flipV="1">
              <a:off x="4946400" y="2795040"/>
              <a:ext cx="0" cy="5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2067"/>
            <p:cNvSpPr/>
            <p:nvPr/>
          </p:nvSpPr>
          <p:spPr>
            <a:xfrm>
              <a:off x="4431960" y="176688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_s2068"/>
            <p:cNvSpPr/>
            <p:nvPr/>
          </p:nvSpPr>
          <p:spPr>
            <a:xfrm>
              <a:off x="4431960" y="330840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raq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y"/>
                <a:ea typeface="Times New Roman"/>
              </a:rPr>
              <a:t>Phase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y"/>
                <a:ea typeface="Times New Roman"/>
              </a:rPr>
              <a:t>STATE OVER SOCIE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  <a:ea typeface="Times New Roman"/>
              </a:rPr>
              <a:t>Iraq as a One Party Stat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  <a:ea typeface="Times New Roman"/>
              </a:rPr>
              <a:t>The Baath Party and the Authoritarian Rule of Saddam Hussein, 1968-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aathPartyleadership1990"/>
          <p:cNvPicPr/>
          <p:nvPr/>
        </p:nvPicPr>
        <p:blipFill>
          <a:blip r:embed="rId1"/>
          <a:stretch/>
        </p:blipFill>
        <p:spPr>
          <a:xfrm>
            <a:off x="3962520" y="2286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wo coups: 1963 and 1968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3: Baath Party + Military (Ar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th forced out of the new govt after the c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8: Baath Party c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for c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-Arabism vs Iraqi na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o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who dominate the state dominate access t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seeks to maintain control over polit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leadership linked to preoccupation with managing the dispersal of the state’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ise and rule of Saddam Husse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B: 04/28/37 in Tikrit, 100 m. north of Bagh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asant family with influential army rel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minent: Uncle Ahmed Hassan al-Bakr; a leader of the 1963 coup and later P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bal society: al-Bejat clan, Albu Nasir T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chool in Baghdad; joined Baath Party when 20, aided in failed assassination of Qasim in Oct. 1959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SHidcard10yearsold"/>
          <p:cNvPicPr/>
          <p:nvPr/>
        </p:nvPicPr>
        <p:blipFill>
          <a:blip r:embed="rId6"/>
          <a:stretch/>
        </p:blipFill>
        <p:spPr>
          <a:xfrm>
            <a:off x="5022720" y="2109960"/>
            <a:ext cx="3808440" cy="3427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6172200" y="57150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ddam Hussein’s identity card, when he was 10 years old. Photo: PBS Frontline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Map of Iraq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Picture 3" descr="Iraqmap"/>
          <p:cNvPicPr/>
          <p:nvPr/>
        </p:nvPicPr>
        <p:blipFill>
          <a:blip r:embed="rId1"/>
          <a:stretch/>
        </p:blipFill>
        <p:spPr>
          <a:xfrm>
            <a:off x="2743200" y="1905120"/>
            <a:ext cx="3772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59056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1963 coup becomes vice chair of the main decision making body for the Baath regime. Also in charge of the security serv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omes president in 1979 when al-Bakr was persuaded to step dow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9" descr="SH17yrsold"/>
          <p:cNvPicPr/>
          <p:nvPr/>
        </p:nvPicPr>
        <p:blipFill>
          <a:blip r:embed="rId3"/>
          <a:stretch/>
        </p:blipFill>
        <p:spPr>
          <a:xfrm>
            <a:off x="5257800" y="1143000"/>
            <a:ext cx="3552840" cy="411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SHCairooldphoto"/>
          <p:cNvPicPr/>
          <p:nvPr/>
        </p:nvPicPr>
        <p:blipFill>
          <a:blip r:embed="rId4"/>
          <a:stretch/>
        </p:blipFill>
        <p:spPr>
          <a:xfrm>
            <a:off x="762120" y="152280"/>
            <a:ext cx="4343400" cy="269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6400800" y="55627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ve left, SH in Cairo after failed ’59 coup; above, SH at 1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urds – open war 1970-1975, with backing of I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ites- formation of secret, clerically led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tigovernment demonstrations in the late 1970s; arrest and execution of prominent Shiite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crac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addam Hussein &amp; the Baath maintained power, 1968-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Oil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ization of the Iraq Petroleum Company in 1972 + OPEC oil embargo and hike in prices in 1973 = skyrocketing oil revenues for Baath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68 oil revenues: $476 million; 1980- $2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1979 Iraq’s oil production second only to Saudi Arabia’s in oil-producing states of the Persian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: </a:t>
            </a:r>
            <a:br>
              <a:rPr sz="44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2. Social welfar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tion of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idies for basic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, high qualit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university tuition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 in status of women (In ’82 more than 30 % univ. students were 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 literacy campa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highway systems &amp; better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idies of ordinary consump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d ownerships &amp; no taxes for many Shiite peasants living in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sive reforms in the countryside; new land distributed to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1970 and 1982 264,400 farmers received grants of l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Hvisitinghomes1980s"/>
          <p:cNvPicPr/>
          <p:nvPr/>
        </p:nvPicPr>
        <p:blipFill>
          <a:blip r:embed="rId1"/>
          <a:stretch/>
        </p:blipFill>
        <p:spPr>
          <a:xfrm>
            <a:off x="2438280" y="838080"/>
            <a:ext cx="4343400" cy="3165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438280" y="4343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ddam Hussein visiting homes, 19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. Fear &amp; terr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sale political repression and persecution of all potential diss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isonment, extrajudicial exec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th sentences including for non-violent offenses, in 1998 and 1999 hundreds of prisoners summarily executed in a “jail cleaning”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hangings and public exec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multiple, alternative sets of internal security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internal security, military intelligence, party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surveillance and informa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internal migration to resettle restive areas (especially Kurds and Shiite Marsh Arab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4. Cult of Personali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3" name="Picture 4" descr="SHmural2"/>
          <p:cNvPicPr/>
          <p:nvPr/>
        </p:nvPicPr>
        <p:blipFill>
          <a:blip r:embed="rId1"/>
          <a:stretch/>
        </p:blipFill>
        <p:spPr>
          <a:xfrm>
            <a:off x="5638680" y="1752480"/>
            <a:ext cx="3071880" cy="487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SHmural3"/>
          <p:cNvPicPr/>
          <p:nvPr/>
        </p:nvPicPr>
        <p:blipFill>
          <a:blip r:embed="rId2"/>
          <a:stretch/>
        </p:blipFill>
        <p:spPr>
          <a:xfrm>
            <a:off x="2133720" y="1752480"/>
            <a:ext cx="2514600" cy="244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Hmural"/>
          <p:cNvPicPr/>
          <p:nvPr/>
        </p:nvPicPr>
        <p:blipFill>
          <a:blip r:embed="rId3"/>
          <a:stretch/>
        </p:blipFill>
        <p:spPr>
          <a:xfrm>
            <a:off x="990720" y="4267080"/>
            <a:ext cx="195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Hstatue"/>
          <p:cNvPicPr/>
          <p:nvPr/>
        </p:nvPicPr>
        <p:blipFill>
          <a:blip r:embed="rId1"/>
          <a:stretch/>
        </p:blipFill>
        <p:spPr>
          <a:xfrm>
            <a:off x="2666880" y="380880"/>
            <a:ext cx="6218280" cy="427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Iraqivictoryarch1989"/>
          <p:cNvPicPr/>
          <p:nvPr/>
        </p:nvPicPr>
        <p:blipFill>
          <a:blip r:embed="rId2"/>
          <a:stretch/>
        </p:blipFill>
        <p:spPr>
          <a:xfrm>
            <a:off x="914400" y="4724280"/>
            <a:ext cx="2678040" cy="19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38080" y="38098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9 Victory 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5.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n-Iraq War 1980-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est conventional war of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: 100-000 200,000 Iraqis dead, 400,000 wounded, 70,000 prison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25 billion debt to Saudis, $10 billion to Kuwai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40 billion to the US, Europe and rest of the wor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idified sentiments of Iraqi national identity among the bulk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of concern over Shiite loyalty SH brought greater numbers of Shiites into the regime as well as repressing any political activ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amicization of the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Background on Iraq: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our Points To Rememb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q did not exist as a state prior to 19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from 3 Ottoman provinces of Mosul, Baghdad, &amp; Ba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us divisions: Sunnis, Shiites (&amp; Christ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no-linguistic divisions: Arabs, Ku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: 60% Shiite Arab; 15% Sunni Arab; 20 % Kurd (mostly Sunn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-Rural di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invasion and colonial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1914 British inv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ed monarc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Faisal from Arabia becomes king. Iraq gains formal independence in 19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More results of Iran-Iraq Wa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med forces grew from 190,000 to over 1 million; Republican Guard grows from 1 to 37 brig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aq becomes major regional military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itarization of society as armed forces became most important part of the sta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lf War (1990-199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war, SH considerably weaker, forced to rely more on tribes to maintain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anctions also help him mainta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jor Players in Iraqi politics, 1968-1991/200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94" name="Diagram 62"/>
          <p:cNvGrpSpPr/>
          <p:nvPr/>
        </p:nvGrpSpPr>
        <p:grpSpPr>
          <a:xfrm>
            <a:off x="1892160" y="1927080"/>
            <a:ext cx="6108120" cy="3791160"/>
            <a:chOff x="1892160" y="1927080"/>
            <a:chExt cx="6108120" cy="3791160"/>
          </a:xfrm>
        </p:grpSpPr>
        <p:sp>
          <p:nvSpPr>
            <p:cNvPr id="195" name="_s3076"/>
            <p:cNvSpPr/>
            <p:nvPr/>
          </p:nvSpPr>
          <p:spPr>
            <a:xfrm>
              <a:off x="4174920" y="2465280"/>
              <a:ext cx="1542600" cy="154152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3077"/>
            <p:cNvSpPr/>
            <p:nvPr/>
          </p:nvSpPr>
          <p:spPr>
            <a:xfrm>
              <a:off x="4174920" y="192708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_s3078"/>
            <p:cNvSpPr/>
            <p:nvPr/>
          </p:nvSpPr>
          <p:spPr>
            <a:xfrm>
              <a:off x="4762080" y="3052800"/>
              <a:ext cx="1542960" cy="15415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3079"/>
            <p:cNvSpPr/>
            <p:nvPr/>
          </p:nvSpPr>
          <p:spPr>
            <a:xfrm>
              <a:off x="6457680" y="363060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ddam Hussein &amp; Tikriti trib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_s3080"/>
            <p:cNvSpPr/>
            <p:nvPr/>
          </p:nvSpPr>
          <p:spPr>
            <a:xfrm>
              <a:off x="4174920" y="3639960"/>
              <a:ext cx="1542600" cy="15415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_s3081"/>
            <p:cNvSpPr/>
            <p:nvPr/>
          </p:nvSpPr>
          <p:spPr>
            <a:xfrm>
              <a:off x="4174920" y="5333760"/>
              <a:ext cx="1542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ath 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3082"/>
            <p:cNvSpPr/>
            <p:nvPr/>
          </p:nvSpPr>
          <p:spPr>
            <a:xfrm>
              <a:off x="3587400" y="3052800"/>
              <a:ext cx="1542960" cy="15415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_s3083"/>
            <p:cNvSpPr/>
            <p:nvPr/>
          </p:nvSpPr>
          <p:spPr>
            <a:xfrm>
              <a:off x="1892160" y="363060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her tribes (after 199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mmon them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ho has been in and who has been out? How have those that maintained power done i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iraq_ethnoreligious_1992"/>
          <p:cNvPicPr/>
          <p:nvPr/>
        </p:nvPicPr>
        <p:blipFill>
          <a:blip r:embed="rId1"/>
          <a:stretch/>
        </p:blipFill>
        <p:spPr>
          <a:xfrm>
            <a:off x="2590920" y="228600"/>
            <a:ext cx="49910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Centralizing State vs Established social elites: Iraq as a British-allied constitutional monarchy, 1921-193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4572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Iraqi Politics, Phas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ormal Institutions of th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g (a new in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eme head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open &amp; dissolve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grant pardons, issue special ordin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s legislative power with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ointed Senate &amp; elected chamber of depu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aisal I, 1</a:t>
            </a:r>
            <a:r>
              <a:rPr b="0" lang="en-US" sz="4400" spc="-1" strike="noStrike" baseline="30000">
                <a:solidFill>
                  <a:srgbClr val="482400"/>
                </a:solidFill>
                <a:latin typeface="Andy"/>
              </a:rPr>
              <a:t>st</a:t>
            </a: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 king of Iraq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Picture 3" descr="FaisalIblackandwhite"/>
          <p:cNvPicPr/>
          <p:nvPr/>
        </p:nvPicPr>
        <p:blipFill>
          <a:blip r:embed="rId1"/>
          <a:stretch/>
        </p:blipFill>
        <p:spPr>
          <a:xfrm>
            <a:off x="914400" y="1828800"/>
            <a:ext cx="3035160" cy="449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aisalatparispeaceconference1919"/>
          <p:cNvPicPr/>
          <p:nvPr/>
        </p:nvPicPr>
        <p:blipFill>
          <a:blip r:embed="rId2"/>
          <a:stretch/>
        </p:blipFill>
        <p:spPr>
          <a:xfrm>
            <a:off x="4267080" y="2057400"/>
            <a:ext cx="4699080" cy="379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5181480" y="6019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s from Iraqipag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aisal’s goals…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l eradication of British influence in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 natio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national ar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6"/>
          <a:stretch/>
        </p:blipFill>
        <p:spPr>
          <a:xfrm>
            <a:off x="5057640" y="762120"/>
            <a:ext cx="4086360" cy="567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7"/>
          <a:stretch/>
        </p:blipFill>
        <p:spPr>
          <a:xfrm>
            <a:off x="4876920" y="1523880"/>
            <a:ext cx="16905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And challengers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(wanted to maintain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ds (opposed Arab national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ite Arabs (opposed educational reforms &amp; exclusion from govern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leaders (opposed efforts to redistribute land and erode their power 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masses” (opposed conscrip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30s, at least 80 percent of Iraq’s population was 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7:50:11Z</dcterms:created>
  <dc:creator>Ralph Squillace</dc:creator>
  <dc:description/>
  <dc:language>en-US</dc:language>
  <cp:lastModifiedBy>hberndt</cp:lastModifiedBy>
  <dcterms:modified xsi:type="dcterms:W3CDTF">2010-04-06T12:26:15Z</dcterms:modified>
  <cp:revision>166</cp:revision>
  <dc:subject/>
  <dc:title>From Constitutional Monarchy to  Authoritarian State:</dc:title>
</cp:coreProperties>
</file>